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580D-75D3-4339-BBD6-37E5421F2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B32A-AB24-4C74-87BC-29BF462C3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F26B-C207-4D32-9127-4E128D739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99A4-FA98-43B1-9E7D-04901F07F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3BF11-CAF8-4AE4-A5FC-F54D0C966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28E0C-E2B7-479F-99EE-A205D0340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5CE6C-246D-4750-A579-5E197AF2A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AC666-3BB6-4844-9488-781080D4E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4EF5A-1E8C-4BC9-B8F3-91FC8EA54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1838C-395C-4EB3-A0A5-13D50C9B4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568D1-AD76-484D-A072-B4B6FDFB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8067-94EA-4A4A-9FBE-C9ADF4885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55EA5-554D-4DA9-AEC6-D8DE4942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C6C48-6C64-49B0-A3AB-81A91864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B20FC-1232-40DE-90DD-63B572D30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8F800-BFAA-4EA3-B841-A907DF872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D5372-97E1-43A0-A7E2-F65F89A27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7FF6-DB50-4B1D-B6A8-74ADA6775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80AE-A9CB-49F3-A0DB-2222D2456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2574-3E9A-4C94-8321-9559FE132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AECB-FF5F-4AF2-B193-0E6AA5E12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6824-8126-4D1E-BD86-06EAD591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5CE0-E6C3-46F1-9055-99AE9710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3965-5DE8-4ECE-B473-2E9DFEC2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29DC4-16B0-456F-99A1-07DB3C0944C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2BC8D-4B5E-4403-BE89-CCB623A834F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e-class Activity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1447920"/>
            <a:ext cx="7772400" cy="26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37ff"/>
                </a:solidFill>
                <a:latin typeface="Arial"/>
              </a:rPr>
              <a:t>Physical proper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matter are those properties that can be observed or measured without changing the composition of the ma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ility of a substance to combine with or change into one or more other substances is called a </a:t>
            </a:r>
            <a:r>
              <a:rPr b="1" lang="en-US" sz="2800" spc="-1" strike="noStrike">
                <a:solidFill>
                  <a:srgbClr val="3737ff"/>
                </a:solidFill>
                <a:latin typeface="Arial"/>
              </a:rPr>
              <a:t>chemical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267080"/>
            <a:ext cx="3352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the photograph to the right depict a physical property of water or a chemical property of wat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486400" y="3733920"/>
            <a:ext cx="2590920" cy="2313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33520" y="5853240"/>
            <a:ext cx="7619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737ff"/>
                </a:solidFill>
                <a:uFillTx/>
                <a:latin typeface="Arial"/>
              </a:rPr>
              <a:t>Homework (Due 9/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Lab Safety Contract signed by parent or guard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ixtur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228600" y="1447920"/>
            <a:ext cx="8610480" cy="3504600"/>
            <a:chOff x="228600" y="1447920"/>
            <a:chExt cx="8610480" cy="3504600"/>
          </a:xfrm>
        </p:grpSpPr>
        <p:sp>
          <p:nvSpPr>
            <p:cNvPr id="190" name=""/>
            <p:cNvSpPr/>
            <p:nvPr/>
          </p:nvSpPr>
          <p:spPr>
            <a:xfrm>
              <a:off x="3809880" y="1447920"/>
              <a:ext cx="1676520" cy="914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atte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5480" y="4038480"/>
              <a:ext cx="1676520" cy="914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28600" y="4038480"/>
              <a:ext cx="1676520" cy="914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523880" y="2743200"/>
              <a:ext cx="1676520" cy="914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ubst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95880" y="2743200"/>
              <a:ext cx="1676520" cy="914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ixt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162920" y="4038480"/>
              <a:ext cx="1676160" cy="914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181480" y="4038480"/>
              <a:ext cx="1676520" cy="914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990720" y="3657600"/>
              <a:ext cx="1371600" cy="380520"/>
            </a:xfrm>
            <a:custGeom>
              <a:avLst/>
              <a:gdLst/>
              <a:ahLst/>
              <a:rect l="l" t="t" r="r" b="b"/>
              <a:pathLst>
                <a:path w="864" h="240">
                  <a:moveTo>
                    <a:pt x="864" y="0"/>
                  </a:moveTo>
                  <a:lnTo>
                    <a:pt x="864" y="144"/>
                  </a:lnTo>
                  <a:lnTo>
                    <a:pt x="0" y="144"/>
                  </a:lnTo>
                  <a:lnTo>
                    <a:pt x="0" y="24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362320" y="3886200"/>
              <a:ext cx="1371600" cy="151920"/>
            </a:xfrm>
            <a:custGeom>
              <a:avLst/>
              <a:gdLst/>
              <a:ahLst/>
              <a:rect l="l" t="t" r="r" b="b"/>
              <a:pathLst>
                <a:path w="864" h="96">
                  <a:moveTo>
                    <a:pt x="0" y="0"/>
                  </a:moveTo>
                  <a:lnTo>
                    <a:pt x="864" y="0"/>
                  </a:lnTo>
                  <a:lnTo>
                    <a:pt x="864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43600" y="3657600"/>
              <a:ext cx="990720" cy="380520"/>
            </a:xfrm>
            <a:custGeom>
              <a:avLst/>
              <a:gdLst/>
              <a:ahLst/>
              <a:rect l="l" t="t" r="r" b="b"/>
              <a:pathLst>
                <a:path w="624" h="240">
                  <a:moveTo>
                    <a:pt x="624" y="0"/>
                  </a:moveTo>
                  <a:lnTo>
                    <a:pt x="624" y="144"/>
                  </a:lnTo>
                  <a:lnTo>
                    <a:pt x="0" y="144"/>
                  </a:lnTo>
                  <a:lnTo>
                    <a:pt x="0" y="24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934320" y="3886200"/>
              <a:ext cx="1066680" cy="151920"/>
            </a:xfrm>
            <a:custGeom>
              <a:avLst/>
              <a:gdLst/>
              <a:ahLst/>
              <a:rect l="l" t="t" r="r" b="b"/>
              <a:pathLst>
                <a:path w="672" h="96">
                  <a:moveTo>
                    <a:pt x="0" y="0"/>
                  </a:moveTo>
                  <a:lnTo>
                    <a:pt x="672" y="0"/>
                  </a:lnTo>
                  <a:lnTo>
                    <a:pt x="672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362320" y="2361960"/>
              <a:ext cx="2286000" cy="380880"/>
            </a:xfrm>
            <a:custGeom>
              <a:avLst/>
              <a:gdLst/>
              <a:ahLst/>
              <a:rect l="l" t="t" r="r" b="b"/>
              <a:pathLst>
                <a:path w="1440" h="240">
                  <a:moveTo>
                    <a:pt x="1440" y="0"/>
                  </a:moveTo>
                  <a:lnTo>
                    <a:pt x="1440" y="96"/>
                  </a:lnTo>
                  <a:lnTo>
                    <a:pt x="0" y="96"/>
                  </a:lnTo>
                  <a:lnTo>
                    <a:pt x="0" y="24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648320" y="2514600"/>
              <a:ext cx="2286000" cy="228240"/>
            </a:xfrm>
            <a:custGeom>
              <a:avLst/>
              <a:gdLst/>
              <a:ahLst/>
              <a:rect l="l" t="t" r="r" b="b"/>
              <a:pathLst>
                <a:path w="1440" h="144">
                  <a:moveTo>
                    <a:pt x="0" y="0"/>
                  </a:moveTo>
                  <a:lnTo>
                    <a:pt x="1440" y="0"/>
                  </a:lnTo>
                  <a:lnTo>
                    <a:pt x="1440" y="1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00040" y="2895480"/>
            <a:ext cx="2895480" cy="368280"/>
            <a:chOff x="3200040" y="2895480"/>
            <a:chExt cx="2895480" cy="368280"/>
          </a:xfrm>
        </p:grpSpPr>
        <p:sp>
          <p:nvSpPr>
            <p:cNvPr id="204" name=""/>
            <p:cNvSpPr/>
            <p:nvPr/>
          </p:nvSpPr>
          <p:spPr>
            <a:xfrm flipH="1">
              <a:off x="3200040" y="3200040"/>
              <a:ext cx="289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733920" y="289548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hysical Chan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5181480" y="43434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ogene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162920" y="4343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erogene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181480" y="5029200"/>
            <a:ext cx="17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nt composition throughout. AKA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315200" y="5029200"/>
            <a:ext cx="1676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well blended.  Individual components remain distin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paration Techniqu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3733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37ff"/>
                </a:solidFill>
                <a:latin typeface="Arial"/>
              </a:rPr>
              <a:t>Chromatograph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Separates the components of mixtures (mobile phase) on the basis of the tendency of each to travel or be drawn across the surface of another mater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495680" y="1905120"/>
            <a:ext cx="388620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paration Techniqu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2209320"/>
            <a:ext cx="33526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37ff"/>
                </a:solidFill>
                <a:latin typeface="Arial"/>
              </a:rPr>
              <a:t>Distil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Separates homogeneous mixtures based on differences in boiling poi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114800" y="2133720"/>
            <a:ext cx="42670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paration Techniqu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66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tration:    Uses a porous barrier to separate a solid from a liquid in a heterogeneous mix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366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3886200" y="3352680"/>
            <a:ext cx="31878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paration Techniqu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ystallization: A technique that results in the formation of pure solid particles of a substance from a solution containing the dissolved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5029200" y="3505320"/>
            <a:ext cx="3733920" cy="31478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1143000" y="3886200"/>
            <a:ext cx="28954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ubstanc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228600" y="1447920"/>
            <a:ext cx="8610480" cy="3504600"/>
            <a:chOff x="228600" y="1447920"/>
            <a:chExt cx="8610480" cy="3504600"/>
          </a:xfrm>
        </p:grpSpPr>
        <p:sp>
          <p:nvSpPr>
            <p:cNvPr id="225" name=""/>
            <p:cNvSpPr/>
            <p:nvPr/>
          </p:nvSpPr>
          <p:spPr>
            <a:xfrm>
              <a:off x="3809880" y="1447920"/>
              <a:ext cx="1676520" cy="914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atte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895480" y="4038480"/>
              <a:ext cx="1676520" cy="914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poun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28600" y="4038480"/>
              <a:ext cx="1676520" cy="914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lem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523880" y="2743200"/>
              <a:ext cx="1676520" cy="914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ubst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095880" y="2743200"/>
              <a:ext cx="1676520" cy="914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ixt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162920" y="4038480"/>
              <a:ext cx="1676160" cy="914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181480" y="4038480"/>
              <a:ext cx="1676520" cy="914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90720" y="3657600"/>
              <a:ext cx="1371600" cy="380520"/>
            </a:xfrm>
            <a:custGeom>
              <a:avLst/>
              <a:gdLst/>
              <a:ahLst/>
              <a:rect l="l" t="t" r="r" b="b"/>
              <a:pathLst>
                <a:path w="864" h="240">
                  <a:moveTo>
                    <a:pt x="864" y="0"/>
                  </a:moveTo>
                  <a:lnTo>
                    <a:pt x="864" y="144"/>
                  </a:lnTo>
                  <a:lnTo>
                    <a:pt x="0" y="144"/>
                  </a:lnTo>
                  <a:lnTo>
                    <a:pt x="0" y="24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362320" y="3886200"/>
              <a:ext cx="1371600" cy="151920"/>
            </a:xfrm>
            <a:custGeom>
              <a:avLst/>
              <a:gdLst/>
              <a:ahLst/>
              <a:rect l="l" t="t" r="r" b="b"/>
              <a:pathLst>
                <a:path w="864" h="96">
                  <a:moveTo>
                    <a:pt x="0" y="0"/>
                  </a:moveTo>
                  <a:lnTo>
                    <a:pt x="864" y="0"/>
                  </a:lnTo>
                  <a:lnTo>
                    <a:pt x="864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943600" y="3657600"/>
              <a:ext cx="990720" cy="380520"/>
            </a:xfrm>
            <a:custGeom>
              <a:avLst/>
              <a:gdLst/>
              <a:ahLst/>
              <a:rect l="l" t="t" r="r" b="b"/>
              <a:pathLst>
                <a:path w="624" h="240">
                  <a:moveTo>
                    <a:pt x="624" y="0"/>
                  </a:moveTo>
                  <a:lnTo>
                    <a:pt x="624" y="144"/>
                  </a:lnTo>
                  <a:lnTo>
                    <a:pt x="0" y="144"/>
                  </a:lnTo>
                  <a:lnTo>
                    <a:pt x="0" y="24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934320" y="3886200"/>
              <a:ext cx="1066680" cy="151920"/>
            </a:xfrm>
            <a:custGeom>
              <a:avLst/>
              <a:gdLst/>
              <a:ahLst/>
              <a:rect l="l" t="t" r="r" b="b"/>
              <a:pathLst>
                <a:path w="672" h="96">
                  <a:moveTo>
                    <a:pt x="0" y="0"/>
                  </a:moveTo>
                  <a:lnTo>
                    <a:pt x="672" y="0"/>
                  </a:lnTo>
                  <a:lnTo>
                    <a:pt x="672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362320" y="2361960"/>
              <a:ext cx="2286000" cy="380880"/>
            </a:xfrm>
            <a:custGeom>
              <a:avLst/>
              <a:gdLst/>
              <a:ahLst/>
              <a:rect l="l" t="t" r="r" b="b"/>
              <a:pathLst>
                <a:path w="1440" h="240">
                  <a:moveTo>
                    <a:pt x="1440" y="0"/>
                  </a:moveTo>
                  <a:lnTo>
                    <a:pt x="1440" y="96"/>
                  </a:lnTo>
                  <a:lnTo>
                    <a:pt x="0" y="96"/>
                  </a:lnTo>
                  <a:lnTo>
                    <a:pt x="0" y="24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648320" y="2514600"/>
              <a:ext cx="2286000" cy="228240"/>
            </a:xfrm>
            <a:custGeom>
              <a:avLst/>
              <a:gdLst/>
              <a:ahLst/>
              <a:rect l="l" t="t" r="r" b="b"/>
              <a:pathLst>
                <a:path w="1440" h="144">
                  <a:moveTo>
                    <a:pt x="0" y="0"/>
                  </a:moveTo>
                  <a:lnTo>
                    <a:pt x="1440" y="0"/>
                  </a:lnTo>
                  <a:lnTo>
                    <a:pt x="1440" y="1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3200040" y="2895480"/>
            <a:ext cx="2895480" cy="368280"/>
            <a:chOff x="3200040" y="2895480"/>
            <a:chExt cx="2895480" cy="368280"/>
          </a:xfrm>
        </p:grpSpPr>
        <p:sp>
          <p:nvSpPr>
            <p:cNvPr id="239" name=""/>
            <p:cNvSpPr/>
            <p:nvPr/>
          </p:nvSpPr>
          <p:spPr>
            <a:xfrm flipH="1">
              <a:off x="3200040" y="3200040"/>
              <a:ext cx="289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733920" y="289548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hysical Chan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5181480" y="43434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ogene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162920" y="4343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erogene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971800" y="510552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hemical combination of two or mor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iffer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904760" y="4114800"/>
            <a:ext cx="1067040" cy="609480"/>
            <a:chOff x="1904760" y="4114800"/>
            <a:chExt cx="1067040" cy="609480"/>
          </a:xfrm>
        </p:grpSpPr>
        <p:sp>
          <p:nvSpPr>
            <p:cNvPr id="245" name=""/>
            <p:cNvSpPr/>
            <p:nvPr/>
          </p:nvSpPr>
          <p:spPr>
            <a:xfrm flipH="1">
              <a:off x="1904760" y="472428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905120" y="411480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hemical Chan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228600" y="5105520"/>
            <a:ext cx="2590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ure substance that can not be broken down in to simpler substances by physical or chemical me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vidence of a Chemical Reac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nge in col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nge in temper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ndotherm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vs.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other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ion of a 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ion of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ecipi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3733920"/>
            <a:ext cx="243828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orption of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962520" y="3733920"/>
            <a:ext cx="243828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ease of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276720" y="5638680"/>
            <a:ext cx="487656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liquids are combined and a solid is for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4191120" y="2895480"/>
            <a:ext cx="2514600" cy="1219320"/>
            <a:chOff x="4191120" y="2895480"/>
            <a:chExt cx="2514600" cy="1219320"/>
          </a:xfrm>
        </p:grpSpPr>
        <p:sp>
          <p:nvSpPr>
            <p:cNvPr id="254" name=""/>
            <p:cNvSpPr/>
            <p:nvPr/>
          </p:nvSpPr>
          <p:spPr>
            <a:xfrm>
              <a:off x="4191120" y="3657600"/>
              <a:ext cx="38088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4572000" y="320040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029200" y="28954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bscrip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152280" y="2819520"/>
            <a:ext cx="2133720" cy="1295280"/>
            <a:chOff x="152280" y="2819520"/>
            <a:chExt cx="2133720" cy="1295280"/>
          </a:xfrm>
        </p:grpSpPr>
        <p:sp>
          <p:nvSpPr>
            <p:cNvPr id="258" name=""/>
            <p:cNvSpPr/>
            <p:nvPr/>
          </p:nvSpPr>
          <p:spPr>
            <a:xfrm>
              <a:off x="1752480" y="3429000"/>
              <a:ext cx="533520" cy="6858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295280" y="3124080"/>
              <a:ext cx="381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52280" y="28195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effici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aw of Conservation of Mas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ss is neither created or destroyed in a chemical reaction, it is conserved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1828800" y="3429000"/>
                <a:ext cx="50292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+</m:t>
                    </m:r>
                    <m:r>
                      <m:t xml:space="preserve">O</m:t>
                    </m:r>
                    <m:r>
                      <m:t xml:space="preserve">2</m:t>
                    </m:r>
                    <m:r>
                      <m:t xml:space="preserve">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gO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4" name=""/>
          <p:cNvGrpSpPr/>
          <p:nvPr/>
        </p:nvGrpSpPr>
        <p:grpSpPr>
          <a:xfrm>
            <a:off x="2209680" y="4495680"/>
            <a:ext cx="2819520" cy="459720"/>
            <a:chOff x="2209680" y="4495680"/>
            <a:chExt cx="2819520" cy="459720"/>
          </a:xfrm>
        </p:grpSpPr>
        <p:sp>
          <p:nvSpPr>
            <p:cNvPr id="265" name=""/>
            <p:cNvSpPr/>
            <p:nvPr/>
          </p:nvSpPr>
          <p:spPr>
            <a:xfrm>
              <a:off x="2209680" y="449568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7g      +    32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648320" y="472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5181480" y="4495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9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mpound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219320" y="3429000"/>
            <a:ext cx="7467480" cy="1523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9250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8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aw of Definite Propor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s combine in definite proportions by m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ercent by mass of each element in a compound will be the same regardless of the quantity of the comp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mpound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w of Multiple Propor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When different compounds are formed from the same elements, different masses of one element combine with the same relative mass of the other element in small whole numb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971800" y="4724280"/>
            <a:ext cx="3581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B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FeB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assification of Matt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28600" y="2057400"/>
            <a:ext cx="8610480" cy="3505320"/>
            <a:chOff x="228600" y="2057400"/>
            <a:chExt cx="8610480" cy="3505320"/>
          </a:xfrm>
        </p:grpSpPr>
        <p:sp>
          <p:nvSpPr>
            <p:cNvPr id="101" name=""/>
            <p:cNvSpPr/>
            <p:nvPr/>
          </p:nvSpPr>
          <p:spPr>
            <a:xfrm>
              <a:off x="3809880" y="2057400"/>
              <a:ext cx="1676520" cy="914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atte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895480" y="4648320"/>
              <a:ext cx="1676520" cy="914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8600" y="4648320"/>
              <a:ext cx="1676520" cy="914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523880" y="3353040"/>
              <a:ext cx="1676520" cy="914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ubst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95880" y="3353040"/>
              <a:ext cx="1676520" cy="914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ixt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162920" y="4648320"/>
              <a:ext cx="1676160" cy="914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181480" y="4648320"/>
              <a:ext cx="1676520" cy="914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90720" y="4267440"/>
              <a:ext cx="1371600" cy="380880"/>
            </a:xfrm>
            <a:custGeom>
              <a:avLst/>
              <a:gdLst/>
              <a:ahLst/>
              <a:rect l="l" t="t" r="r" b="b"/>
              <a:pathLst>
                <a:path w="864" h="240">
                  <a:moveTo>
                    <a:pt x="864" y="0"/>
                  </a:moveTo>
                  <a:lnTo>
                    <a:pt x="864" y="144"/>
                  </a:lnTo>
                  <a:lnTo>
                    <a:pt x="0" y="144"/>
                  </a:lnTo>
                  <a:lnTo>
                    <a:pt x="0" y="24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362320" y="4496040"/>
              <a:ext cx="1371600" cy="152280"/>
            </a:xfrm>
            <a:custGeom>
              <a:avLst/>
              <a:gdLst/>
              <a:ahLst/>
              <a:rect l="l" t="t" r="r" b="b"/>
              <a:pathLst>
                <a:path w="864" h="96">
                  <a:moveTo>
                    <a:pt x="0" y="0"/>
                  </a:moveTo>
                  <a:lnTo>
                    <a:pt x="864" y="0"/>
                  </a:lnTo>
                  <a:lnTo>
                    <a:pt x="864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943600" y="4267440"/>
              <a:ext cx="990720" cy="380880"/>
            </a:xfrm>
            <a:custGeom>
              <a:avLst/>
              <a:gdLst/>
              <a:ahLst/>
              <a:rect l="l" t="t" r="r" b="b"/>
              <a:pathLst>
                <a:path w="624" h="240">
                  <a:moveTo>
                    <a:pt x="624" y="0"/>
                  </a:moveTo>
                  <a:lnTo>
                    <a:pt x="624" y="144"/>
                  </a:lnTo>
                  <a:lnTo>
                    <a:pt x="0" y="144"/>
                  </a:lnTo>
                  <a:lnTo>
                    <a:pt x="0" y="24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934320" y="4496040"/>
              <a:ext cx="1066680" cy="152280"/>
            </a:xfrm>
            <a:custGeom>
              <a:avLst/>
              <a:gdLst/>
              <a:ahLst/>
              <a:rect l="l" t="t" r="r" b="b"/>
              <a:pathLst>
                <a:path w="672" h="96">
                  <a:moveTo>
                    <a:pt x="0" y="0"/>
                  </a:moveTo>
                  <a:lnTo>
                    <a:pt x="672" y="0"/>
                  </a:lnTo>
                  <a:lnTo>
                    <a:pt x="672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362320" y="2971800"/>
              <a:ext cx="2286000" cy="381240"/>
            </a:xfrm>
            <a:custGeom>
              <a:avLst/>
              <a:gdLst/>
              <a:ahLst/>
              <a:rect l="l" t="t" r="r" b="b"/>
              <a:pathLst>
                <a:path w="1440" h="240">
                  <a:moveTo>
                    <a:pt x="1440" y="0"/>
                  </a:moveTo>
                  <a:lnTo>
                    <a:pt x="1440" y="96"/>
                  </a:lnTo>
                  <a:lnTo>
                    <a:pt x="0" y="96"/>
                  </a:lnTo>
                  <a:lnTo>
                    <a:pt x="0" y="24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648320" y="3124440"/>
              <a:ext cx="2286000" cy="228600"/>
            </a:xfrm>
            <a:custGeom>
              <a:avLst/>
              <a:gdLst/>
              <a:ahLst/>
              <a:rect l="l" t="t" r="r" b="b"/>
              <a:pathLst>
                <a:path w="1440" h="144">
                  <a:moveTo>
                    <a:pt x="0" y="0"/>
                  </a:moveTo>
                  <a:lnTo>
                    <a:pt x="1440" y="0"/>
                  </a:lnTo>
                  <a:lnTo>
                    <a:pt x="1440" y="1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228600" y="1981080"/>
            <a:ext cx="2590920" cy="1219320"/>
            <a:chOff x="228600" y="1981080"/>
            <a:chExt cx="2590920" cy="1219320"/>
          </a:xfrm>
        </p:grpSpPr>
        <p:sp>
          <p:nvSpPr>
            <p:cNvPr id="115" name=""/>
            <p:cNvSpPr/>
            <p:nvPr/>
          </p:nvSpPr>
          <p:spPr>
            <a:xfrm>
              <a:off x="228600" y="1981080"/>
              <a:ext cx="2590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tains only one type of matter.  AKA pure substan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23880" y="281952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6553080" y="2209680"/>
            <a:ext cx="2362320" cy="1066680"/>
            <a:chOff x="6553080" y="2209680"/>
            <a:chExt cx="2362320" cy="1066680"/>
          </a:xfrm>
        </p:grpSpPr>
        <p:sp>
          <p:nvSpPr>
            <p:cNvPr id="118" name=""/>
            <p:cNvSpPr/>
            <p:nvPr/>
          </p:nvSpPr>
          <p:spPr>
            <a:xfrm>
              <a:off x="6553080" y="220968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tains more than one type of matter.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7162920" y="281916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200040" y="3505320"/>
            <a:ext cx="2895480" cy="368280"/>
            <a:chOff x="3200040" y="3505320"/>
            <a:chExt cx="2895480" cy="368280"/>
          </a:xfrm>
        </p:grpSpPr>
        <p:sp>
          <p:nvSpPr>
            <p:cNvPr id="121" name=""/>
            <p:cNvSpPr/>
            <p:nvPr/>
          </p:nvSpPr>
          <p:spPr>
            <a:xfrm flipH="1">
              <a:off x="3200040" y="3809880"/>
              <a:ext cx="289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733920" y="350532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hysical Chan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hysical Properties of Matt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20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37ff"/>
                </a:solidFill>
                <a:latin typeface="Arial"/>
              </a:rPr>
              <a:t>Physical proper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matter are those properties that can be observed or measured without changing the composition of the ma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0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tensive vs. Intensive Properti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37ff"/>
                </a:solidFill>
                <a:latin typeface="Arial"/>
              </a:rPr>
              <a:t>Extensive propert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dependent on the amount of matter pre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37ff"/>
                </a:solidFill>
                <a:latin typeface="Arial"/>
              </a:rPr>
              <a:t>Intensive propert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independent of the amount of matter pres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e-Class Question 9/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1460520" cy="21891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09480" y="3962520"/>
            <a:ext cx="2517840" cy="21891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3352680" y="3962520"/>
            <a:ext cx="2919600" cy="21891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4724280" y="1676520"/>
            <a:ext cx="2438640" cy="20955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Featured Pic"/>
          <p:cNvPicPr/>
          <p:nvPr/>
        </p:nvPicPr>
        <p:blipFill>
          <a:blip r:embed="rId5"/>
          <a:stretch/>
        </p:blipFill>
        <p:spPr>
          <a:xfrm>
            <a:off x="2286000" y="1600200"/>
            <a:ext cx="2224080" cy="21891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553080" y="3962520"/>
            <a:ext cx="2210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ype of change is occurring in each photograp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tates of Matt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hysical Form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80880" y="1600200"/>
          <a:ext cx="8382240" cy="4857840"/>
        </p:xfrm>
        <a:graphic>
          <a:graphicData uri="http://schemas.openxmlformats.org/drawingml/2006/table">
            <a:tbl>
              <a:tblPr/>
              <a:tblGrid>
                <a:gridCol w="1660680"/>
                <a:gridCol w="2266920"/>
                <a:gridCol w="1811160"/>
                <a:gridCol w="2643480"/>
              </a:tblGrid>
              <a:tr h="59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p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u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ssibil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qu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2362320" y="25909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37ff"/>
                </a:solidFill>
                <a:latin typeface="Arial"/>
              </a:rPr>
              <a:t>Defin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4864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37ff"/>
                </a:solidFill>
                <a:latin typeface="Arial"/>
              </a:rPr>
              <a:t>Indefin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40384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37ff"/>
                </a:solidFill>
                <a:latin typeface="Arial"/>
              </a:rPr>
              <a:t>Indefin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495680" y="25909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37ff"/>
                </a:solidFill>
                <a:latin typeface="Arial"/>
              </a:rPr>
              <a:t>Defin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95680" y="40384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37ff"/>
                </a:solidFill>
                <a:latin typeface="Arial"/>
              </a:rPr>
              <a:t>Defin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343400" y="54864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37ff"/>
                </a:solidFill>
                <a:latin typeface="Arial"/>
              </a:rPr>
              <a:t>Indefin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019920" y="2286000"/>
            <a:ext cx="2819160" cy="1171080"/>
            <a:chOff x="6019920" y="2286000"/>
            <a:chExt cx="2819160" cy="1171080"/>
          </a:xfrm>
        </p:grpSpPr>
        <p:sp>
          <p:nvSpPr>
            <p:cNvPr id="143" name=""/>
            <p:cNvSpPr/>
            <p:nvPr/>
          </p:nvSpPr>
          <p:spPr>
            <a:xfrm>
              <a:off x="6019920" y="2286000"/>
              <a:ext cx="281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737ff"/>
                  </a:solidFill>
                  <a:latin typeface="Arial"/>
                </a:rPr>
                <a:t>Incompressib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6934320" y="2895480"/>
              <a:ext cx="733320" cy="561600"/>
              <a:chOff x="6934320" y="2895480"/>
              <a:chExt cx="733320" cy="561600"/>
            </a:xfrm>
          </p:grpSpPr>
          <p:sp>
            <p:nvSpPr>
              <p:cNvPr id="145" name=""/>
              <p:cNvSpPr/>
              <p:nvPr/>
            </p:nvSpPr>
            <p:spPr>
              <a:xfrm>
                <a:off x="7124400" y="3075840"/>
                <a:ext cx="181080" cy="19044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305840" y="3094920"/>
                <a:ext cx="181080" cy="1904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191720" y="3257280"/>
                <a:ext cx="181080" cy="190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363080" y="3267000"/>
                <a:ext cx="181080" cy="19008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001280" y="3219120"/>
                <a:ext cx="181080" cy="1904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487280" y="3133080"/>
                <a:ext cx="180360" cy="190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419960" y="2942640"/>
                <a:ext cx="181080" cy="19044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29880" y="2914200"/>
                <a:ext cx="181080" cy="190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048440" y="2895480"/>
                <a:ext cx="181080" cy="190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934320" y="3047760"/>
                <a:ext cx="181080" cy="190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5" name=""/>
          <p:cNvGrpSpPr/>
          <p:nvPr/>
        </p:nvGrpSpPr>
        <p:grpSpPr>
          <a:xfrm>
            <a:off x="6019920" y="3581280"/>
            <a:ext cx="2819160" cy="1404000"/>
            <a:chOff x="6019920" y="3581280"/>
            <a:chExt cx="2819160" cy="1404000"/>
          </a:xfrm>
        </p:grpSpPr>
        <p:sp>
          <p:nvSpPr>
            <p:cNvPr id="156" name=""/>
            <p:cNvSpPr/>
            <p:nvPr/>
          </p:nvSpPr>
          <p:spPr>
            <a:xfrm>
              <a:off x="6019920" y="3581280"/>
              <a:ext cx="2819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737ff"/>
                  </a:solidFill>
                  <a:latin typeface="Arial"/>
                </a:rPr>
                <a:t>Nearly Incompress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7070040" y="4345920"/>
              <a:ext cx="733680" cy="639360"/>
              <a:chOff x="7070040" y="4345920"/>
              <a:chExt cx="733680" cy="639360"/>
            </a:xfrm>
          </p:grpSpPr>
          <p:sp>
            <p:nvSpPr>
              <p:cNvPr id="158" name=""/>
              <p:cNvSpPr/>
              <p:nvPr/>
            </p:nvSpPr>
            <p:spPr>
              <a:xfrm rot="20989800">
                <a:off x="7288560" y="4599360"/>
                <a:ext cx="163440" cy="16164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20989800">
                <a:off x="7452360" y="4586040"/>
                <a:ext cx="163440" cy="162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20989800">
                <a:off x="7388280" y="4763160"/>
                <a:ext cx="162720" cy="162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20989800">
                <a:off x="7621200" y="4746600"/>
                <a:ext cx="163440" cy="1623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20989800">
                <a:off x="7221960" y="4809600"/>
                <a:ext cx="162720" cy="162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20989800">
                <a:off x="7627680" y="4538160"/>
                <a:ext cx="162720" cy="162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20989800">
                <a:off x="7525440" y="4358880"/>
                <a:ext cx="162720" cy="16164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20989800">
                <a:off x="7315200" y="4404960"/>
                <a:ext cx="163440" cy="162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20989800">
                <a:off x="7135560" y="4379400"/>
                <a:ext cx="163440" cy="162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20989800">
                <a:off x="7083000" y="4570200"/>
                <a:ext cx="163440" cy="162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" name=""/>
          <p:cNvGrpSpPr/>
          <p:nvPr/>
        </p:nvGrpSpPr>
        <p:grpSpPr>
          <a:xfrm>
            <a:off x="6172200" y="5105520"/>
            <a:ext cx="2590920" cy="1295280"/>
            <a:chOff x="6172200" y="5105520"/>
            <a:chExt cx="2590920" cy="1295280"/>
          </a:xfrm>
        </p:grpSpPr>
        <p:sp>
          <p:nvSpPr>
            <p:cNvPr id="169" name=""/>
            <p:cNvSpPr/>
            <p:nvPr/>
          </p:nvSpPr>
          <p:spPr>
            <a:xfrm>
              <a:off x="6172200" y="5105520"/>
              <a:ext cx="259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737ff"/>
                  </a:solidFill>
                  <a:latin typeface="Arial"/>
                </a:rPr>
                <a:t>Compressib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6781680" y="5562720"/>
              <a:ext cx="1323720" cy="838080"/>
              <a:chOff x="6781680" y="5562720"/>
              <a:chExt cx="1323720" cy="838080"/>
            </a:xfrm>
          </p:grpSpPr>
          <p:sp>
            <p:nvSpPr>
              <p:cNvPr id="171" name=""/>
              <p:cNvSpPr/>
              <p:nvPr/>
            </p:nvSpPr>
            <p:spPr>
              <a:xfrm>
                <a:off x="6781680" y="5915520"/>
                <a:ext cx="181080" cy="1893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553520" y="5838840"/>
                <a:ext cx="181080" cy="190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305840" y="6210720"/>
                <a:ext cx="181080" cy="190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277760" y="5697000"/>
                <a:ext cx="180360" cy="19008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134480" y="6001560"/>
                <a:ext cx="181080" cy="190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772760" y="5562720"/>
                <a:ext cx="180360" cy="190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925040" y="5896440"/>
                <a:ext cx="180360" cy="1893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867720" y="6181560"/>
                <a:ext cx="181080" cy="190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915600" y="5668200"/>
                <a:ext cx="180360" cy="190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677720" y="6115680"/>
                <a:ext cx="180360" cy="190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hemical Properti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ility of a substance to combine with or change into one or more other substances is called a </a:t>
            </a:r>
            <a:r>
              <a:rPr b="1" lang="en-US" sz="2400" spc="-1" strike="noStrike">
                <a:solidFill>
                  <a:srgbClr val="3737ff"/>
                </a:solidFill>
                <a:latin typeface="Arial"/>
              </a:rPr>
              <a:t>chemical pro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37ff"/>
                </a:solidFill>
                <a:latin typeface="Arial"/>
              </a:rPr>
              <a:t>A chemical property cannot be observed a substance undergoing a chemical change (changing</a:t>
            </a:r>
            <a:r>
              <a:rPr b="1" lang="en-US" sz="2400" spc="-1" strike="noStrike">
                <a:solidFill>
                  <a:srgbClr val="3737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737ff"/>
                </a:solidFill>
                <a:latin typeface="Arial"/>
              </a:rPr>
              <a:t>into a new substa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hysical Chang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hange which alters a substance without changing its composi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e-class Activity 9/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required to separate a mixture into individual substan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37ff"/>
                </a:solidFill>
                <a:latin typeface="Arial"/>
              </a:rPr>
              <a:t>A Physical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key difference between a physical change and a chemical chan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37ff"/>
                </a:solidFill>
                <a:latin typeface="Arial"/>
              </a:rPr>
              <a:t>During a physical change the composition of matter stays the same.  The composition of a substance is altered as a result of a chemical cha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58672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o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prepared for homework quiz #2 (sections 3.1-3.4) on Fri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4:09:25Z</dcterms:created>
  <dc:creator>Dawn Pav</dc:creator>
  <dc:description/>
  <dc:language>en-US</dc:language>
  <cp:lastModifiedBy>udsd</cp:lastModifiedBy>
  <dcterms:modified xsi:type="dcterms:W3CDTF">2009-09-21T15:13:12Z</dcterms:modified>
  <cp:revision>10</cp:revision>
  <dc:subject/>
  <dc:title>Pre-class Activity 1</dc:title>
</cp:coreProperties>
</file>